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439F-14EB-4171-86E2-4E4D7F480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E502-15CE-436A-8559-2391415EBCE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6881-5D90-48E0-9975-E23AAA59E43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CC6C-5FF5-44DA-BF01-64BA692FAD6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0874-5C2A-493B-89C9-FD9865E52E6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CAC4-F2AC-4C84-8637-AA9E132F1EB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07EA-DF0E-487B-81BA-6209EA8242C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9E00-D935-44DB-8DF7-3EE6D0153A4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043A-4016-4526-8BF9-2570CD6366A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8D89-06A8-4A9C-9BA5-D26E190CCAF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9683-6F0B-4C90-B9C7-B297F52DFEC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0321-2170-4AA9-86EB-8CF03BB51C1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D0EF-232E-4E49-9AC5-02F2CB5E713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8232-DFDA-4953-93DB-AAB4AC2FBC8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D510-78BE-4EFD-86C9-C858F6F0E9B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1286-99FE-4B1C-A9DD-B3350BEA8F2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6A68-FC01-4755-AE51-7B608771804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BDF5-BD43-44E5-8F47-4AB7F44054C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7290-87FD-4AF9-A1FA-143B1DA9A5A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CACB-2B61-4699-B273-16A472DCCBA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5F43-FA8E-4DAC-899D-EF044EA6E1E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E032-A195-4FBB-826E-CADB0C889AC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286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18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РМАКОТЕРАПИЈА КРВИ И ТКИВА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нед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3905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. др Наташа Ђорђ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убоке венске тромбозе и тромбоембол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утна терапија (високе доз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илакса (LMWH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 мале дозе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арна: хируршка и медицин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кундарна (алтернатива кумарини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омбозе и емболије периферних арт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утни коронарни синд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утни инфаркт миока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табилна ангина пектор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жељена дејства хепа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вар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дот: протамин сулфат (базни полипепт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омбоцитопен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верзибилна, тип 1 (агрегационо деј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шка, тип 2 (антите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гуће тромбо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опе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еопороза (хронич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арентерални 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хибитори тромбина (II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ирудин (Hirudo medicinal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пирудин, десирудин, бивалируд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мена за хеп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омбоцитопенија изазвана хепари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гиопла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ибриноли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ептокиназа (Streptas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урокин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атори плазминог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кивни активатор плазминогена (t-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ивација плазминогена везаног за фиб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комбнантни хумани проте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лтеплаза (ActilyseR) - немодификов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теплаза, тенектеплаза - модификовани (дужи Т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тистрепл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умани плазминоген и стрептокин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потр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утне тромбоемболије ар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аркт миока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ућна ембол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хемични мождани инсул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иферна васкуларна оклу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омбозе великих в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жељена деј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асност од крвар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ерг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ептокин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чајне контраиндик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перфузионе артим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хибитори фибриноли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хибитори плазминог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догени:инхибитор активатора плазминогена (PA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псилон аминокапронск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нексамичн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хибитори плазм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догени: алфа-2 антиплаз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протинин (Trasylo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рапија крварења због патолошке фибриноли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Витамин 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итонадион (К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накинон (К2), -дион (К3), -диол (К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потре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опортомбинемија у новорођенч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илијарна опструкција (фистул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лапсор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опротромбинемија изазвана лек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озирање оралним антикоагуланс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грегација тромбоц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аген &gt; GPIa/I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он Виленбрандов фактор vW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GP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омбин (IIa) &gt; PAR1/PAR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бриноген (I) &gt; GPIIb/II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клооксигеназа-1 (COX-1) &gt; TX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D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P2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P2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иагрегациони лек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енопирид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пиридам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ентер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атори GPIIb/II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икоагулан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тагонисти витамина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тори тромбин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и фактора 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ентерал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епарин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и нискомолекуларни хепар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ректни инхибитори тромб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ндапаринукс (пентасахари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спир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реверзибилна инхбиција CO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ција TX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ске дозе, 50-320 м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фикасан и јевт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неким индикацијама могуће комбинације са дипиридамолом и клопидогре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гућа толеранциј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оком дуге при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нтиагрегациони лекови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пиридамол (Aggrenox</a:t>
            </a:r>
            <a:r>
              <a:rPr b="0" lang="sr-CS" sz="28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хибиција фосфодиестер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умулација аденозина (А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имулација аденилил циклазе (цАМ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енопирид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клопидин (Ticlodi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опидогрел (Plavix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хибитори P2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ергизам са аспирином у А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утропенија и тромбоцитопенијска пурп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потр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апија и профилакса тромбоемболизма ар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онарна бол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реброваскуларне 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иферна васкуларна инсуфицијен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тернатива оралним антикоагуланс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ги из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Блокатори GPIIb/II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интегрин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I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циксимаб (ReoPro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- хуманизовано моноклонско антитело (Фа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тифибатид - циклични пепт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ирофибан (Aggrasta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- непептидни мали молек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рвентна кардиологија: акутни коронарни синдром, уградња ст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варење, у до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парати гвожђ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рално: феро сулф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арентерално: гвожђе декстран, гвожђе сук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дикације: хипохромна анем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ефицит гвожђа = (140 х хемоглобин у г/Л)/140 * 470 мг * 5 плус 500 мг (попуна депо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ежељена деј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рално: надражај гастроинтестиналног тр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арентерално: алер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парати еритропоет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Еритропоетин алфа и б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лфа (и.в.), бета (и.в., с.к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арбопоетин ал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ужа елиминација, примена једном недељно, супкут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дикације: анемије код хроничне инсуфицијенције бубр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ежељена дејства: хипертензија и тромбозе (претерани пораст хематокри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Фактори раста гранулоцита и макрофага као лек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Филграстим – гранулоц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-C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Молграмостин – све крвне лоз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M-C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Ленограстим – гликозилира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-C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дикације: опоравак беле крвне лозе после примене цитостатика, инсуфуцијенција костне ср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ежељена дејства: болови у костима, стање слично грипу, едеми и изливи у плеури и перикар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Фолна киселина и препарати витамина Б1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Тетрахидрофолна киселина – активни обли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Хидрокси- и цијанокобаламин (Б1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Недостатак: мегалобластна анемиј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уникуларна мијелоза (само витамин Б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ефект неуралне цеви (фолна кисел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Arial"/>
              </a:rPr>
              <a:t>Начин примене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Фолна киселина, орално 0.5-1 мг (дневне потребе), 0.5-0.8 мг (превенција у трудноћи), 5 мг (терапијска доза, труднице под већим ризик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итамин Б12, интрамускуларно, 1-2.5 мг (терапијска доза), дневне потребе око 2 мц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ОМЕОСТАЗА ТЕЛЕСНИХ ТЕ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ремина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кстрацелуларн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~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ahoma"/>
              </a:rPr>
              <a:t>33%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зма, интерстицијална течност, ликвор, интралуминална течност у цревима, очна водица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трацелуларна течно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~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ahoma"/>
              </a:rPr>
              <a:t>67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молар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нцентрација појединих електро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рмаколошка актив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нцентрација фармаколошки активних електрол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Равнотежа између узимања и излуч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рацелуларна 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Mg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P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кстрацелуларна теч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HC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Механизми хомеост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нтидиуретски хорм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лдосте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ломеруларна филтр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рални антикоагулан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тори витамина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ривати кумар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арфарин (Far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аценокумарол, фенпрокум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ривати инданд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ениндион (ретк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тори тромб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абигатран етексил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Инхибитори фактора 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ивароксабан, апикса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ЕФИЦИТ В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мањено уношење/повећан губит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еђ, црвена кожа, суве слузнице, тахикардија, олигу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алуцинације, делиријум, хиперпноја, к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нфузија 2,5-5% декстр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ВИШАК В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ећано уношење/смањено излучи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имптоми (’’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Синдром интоксикације вод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’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лавобоља, наузеја, повраћање, грчеви у стомаку, ступор, кома, конв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граничење уноса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фузија хипертоних раствора НаЦ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моларност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купна количина растворених састој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290 mOsm/kg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онцентрација састој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екстрацелуларно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4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екстрацелуларно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4,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екстрацелуларно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екстрацелуларн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ИПЕРНАТРИЕ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Губитак воде без Na</a:t>
            </a:r>
            <a:r>
              <a:rPr b="0" lang="sr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/примена Na</a:t>
            </a:r>
            <a:r>
              <a:rPr b="0" lang="sr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без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адокнад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мањење уношења Na</a:t>
            </a:r>
            <a:r>
              <a:rPr b="0" lang="sr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Форсирана диур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ИПОНАТРИЕ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Губитак Na</a:t>
            </a:r>
            <a:r>
              <a:rPr b="0" lang="sr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/ретенциј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узиј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Cl (+NaHC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,9%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-5%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стрикција унос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ИПЕРКАЛИЕ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државање К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/прекомерно уношење К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лабост/парализа 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ремећај рада с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граничење уноса К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моле за размену катј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сулин, NaHC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хемодиј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ИПОКАЛИЕМ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мањено уношење К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/повећан губитак К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лабост 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ремећаји рада с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ена К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инфузији KCl 1-3mмol/kg/24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er os KCl 1-3g/24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ФАРМАКОЛОШКА АКТИВ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трацелулар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~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7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кстрацелулар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~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ahoma"/>
              </a:rPr>
              <a:t>7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ahoma"/>
              </a:rPr>
              <a:t>Регул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ahoma"/>
              </a:rPr>
              <a:t>Плућа и бубре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ahoma"/>
              </a:rPr>
              <a:t>Пуферски систем: протеини, фосфати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хемоглоб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ремећаји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цидоза и алкал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СПИРАТОРНА АЦИД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пресија дисањ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хиперкапнија →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прављање дис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говање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4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46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pH артеријске кр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СПИРАТОРНА АЛКАЛ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первентилациј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хипокапн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ксиолит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говање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46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pH артеријске кр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умар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ција синтезе фактора коагулације II, VII, IX,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хибиција епоксид редук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енерација витамина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окада карбоксилације фактора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карбоксиглутама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р антикоагулантни ефекат (пар да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ромбинско време 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љашњи пут коагу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љне вредности 2-4 (у зависности од индика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ЕТАБОЛИЧКА АЦИД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убитак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K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Ca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прављ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сновног поремећ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имена NaHC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5[l/kg]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Tahoma"/>
              </a:rPr>
              <a:t>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t[kg]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Tahoma"/>
              </a:rPr>
              <a:t>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ahoma"/>
              </a:rPr>
              <a:t>(nkb-ikb)[mM/l]=D[m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говањ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лектрол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ЕТАБОЛИЧКА АЛКАЛ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убитак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 К</a:t>
            </a:r>
            <a:r>
              <a:rPr b="0" lang="sr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/прекомеран унос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докнад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убоке венске тромбозе и плућна ембол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утно: комбинација са парентералим антикоагуланс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кундарна профилакса: више месе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тријална фибрил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филакса тромбоза вештачких валв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жељена дејства кума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вар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чење: плазма, витамин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не некр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кротромбозе (протеин S и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руга нежељена деј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атогено деј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ојне интер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дром пурпурних пал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ксиколошки значај (тровање родентицидим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Нови орални антикоагулан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абигатран етексил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фикасан у превенцији дубоке венске тромб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Ривароксабан и апиксаб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ревенција ДВТ у ортопедији и емобилизације код атријалне фибри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едност НОАК: није потребно одређивати протромбинско вр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Нежељена дејства НОАК: крвављ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епар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шавина мукополисахарида (гликозаминоглика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фракционисани (високомолекуларни) ~15КДа (U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тализатор (активатор) антитромбина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ракционисани, нискомолекуларни (LMW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ноксапарин (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Clexane</a:t>
            </a:r>
            <a:r>
              <a:rPr b="0" lang="sl-SI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далтепарин (Fragm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надропарин (Fraxiparin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лективни инхибитори фактора 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апароид (хепарино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ханизам деј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посредно (брзо) дејство (интравенс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хибиција унутрашњег пута коагул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a (тромбин), IXа, Xа, XI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ола дозир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ктивирано парцијално тромбопластинско вр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T 26 - 33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ктивност фактора Xа (нискомолекулар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8-09-10T18:36:42Z</dcterms:modified>
  <cp:revision>16</cp:revision>
  <dc:subject/>
  <dc:title>Slide 1</dc:title>
</cp:coreProperties>
</file>